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B34-F394-412B-93F2-E9D9AF7A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EAF-A81D-430E-8AFC-3E2AFB36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EB2-B9B9-4C9F-9E7F-1CCA3360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F93-2B7A-47C2-A1DE-6698AFB8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C10-0911-4A55-8F4F-F57AA199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1E8-AF45-4EB0-A6A5-BE130459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0CB-00C8-4874-B0DC-1218C185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0D9-F2E0-4C8B-BFE5-144686E2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6DF-CA40-42C3-AED1-C3ED1836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715-B3D2-4865-827F-44275ABF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B82-B98A-42B6-9355-8FD0D27C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91A-413B-4519-AD3C-E3DF6064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2DD1-E492-4B93-A041-580D8602D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nuncibaysl.net/noticias/fotos/010723482937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wayne y Sydne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lasses de espa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ril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51051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num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t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e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u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8:31:33Z</dcterms:created>
  <dc:creator>WSFCS Workstation</dc:creator>
  <dc:description/>
  <dc:language>en-US</dc:language>
  <cp:lastModifiedBy>WSFCS Workstation</cp:lastModifiedBy>
  <dcterms:modified xsi:type="dcterms:W3CDTF">2010-04-30T19:00:28Z</dcterms:modified>
  <cp:revision>3</cp:revision>
  <dc:subject/>
  <dc:title>      Dwayne y Sydney </dc:title>
</cp:coreProperties>
</file>